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B37-D3DB-4D62-8425-ABCF141E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D5B-A7E1-4BC6-89D5-CEAEA8FD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D9D-0136-416F-9344-2978B34B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5308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7140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512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5308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7140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C063-6631-4749-8ECF-03C79DE7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81C-7F1A-4A3C-8755-882BE43C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5308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7140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512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5308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7140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C6B-B373-49BF-8921-1C264B55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45B-2D74-4DF1-AC17-E0FF5504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0B5-9AB0-48F8-A8A6-DEF8723A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56D-EFDF-469A-A50D-D455A43F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1AF-31AF-4B7C-80E3-387935E6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EDC-DC70-42E2-B2D8-BBF9C312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A97-1CCD-4AB0-B2AD-20D30AC4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72DE0-9244-4188-8FFC-451089B65984}" type="slidenum">
              <a:rPr b="0" lang="cs-CZ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56800" y="12460320"/>
            <a:ext cx="912492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Datum / čas / místo ko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31760" y="234756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931760" y="506376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931760" y="777348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419600" y="477360"/>
            <a:ext cx="2700360" cy="1497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647960" y="23443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4647960" y="50605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647960" y="777060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364520" y="234900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364520" y="506520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7364520" y="7775640"/>
            <a:ext cx="2698560" cy="2698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6800" y="11221920"/>
            <a:ext cx="9124920" cy="3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ázev jednoty“ Vás zve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56800" y="12899520"/>
            <a:ext cx="912492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gram nebo popis a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6800" y="11785680"/>
            <a:ext cx="9124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  <a:ea typeface="Arial"/>
              </a:rPr>
              <a:t>Název ak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56800" y="13932000"/>
            <a:ext cx="912492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Webové stránky nebo další inform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4T20:44:10Z</dcterms:created>
  <dc:creator>Eliška</dc:creator>
  <dc:description/>
  <dc:language>en-US</dc:language>
  <cp:lastModifiedBy>Eliška</cp:lastModifiedBy>
  <dcterms:modified xsi:type="dcterms:W3CDTF">2016-08-30T10:47:43Z</dcterms:modified>
  <cp:revision>15</cp:revision>
  <dc:subject/>
  <dc:title>PowerPoint Presentation</dc:title>
</cp:coreProperties>
</file>