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7BC-D0FF-4010-998A-CF1F8959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FAE-39C6-4104-921F-CF58E7BF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AD2-23D7-47B8-9B85-AA36FBCB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5308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7140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512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5308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7140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77A-554C-4322-917D-DCCFC966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AEE-33DD-448D-8E4F-E46BC717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5308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7140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512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5308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7140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221-3497-451A-9BD9-AEF6391E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C89-40E6-4494-9BB8-64F54179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664-5640-40EF-A13A-42D0A4B7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D33-0F86-49CE-8BE1-26AAFF30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FE7-48C5-4909-988C-595E76D0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EB2-1B44-4B48-9B05-B9B384AD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5AD-CAE5-4053-B2EA-F78600DB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C6840-84D0-4C6D-8540-773D0110CE58}" type="slidenum">
              <a:rPr b="0" lang="cs-CZ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56800" y="12460320"/>
            <a:ext cx="912492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Datum / čas / místo ko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31760" y="234756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931760" y="506376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931760" y="777348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419600" y="477360"/>
            <a:ext cx="2700360" cy="1497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647960" y="23443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4647960" y="50605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647960" y="777060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364520" y="234900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364520" y="506520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7364520" y="7775640"/>
            <a:ext cx="2698560" cy="2698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6800" y="11221920"/>
            <a:ext cx="9124920" cy="3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ázev jednoty“ Vás zve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56800" y="12899520"/>
            <a:ext cx="912492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gram nebo popis a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6800" y="11785680"/>
            <a:ext cx="9124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  <a:ea typeface="Arial"/>
              </a:rPr>
              <a:t>Název ak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56800" y="13932000"/>
            <a:ext cx="912492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Webové stránky nebo další inform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4T20:44:10Z</dcterms:created>
  <dc:creator>Eliška</dc:creator>
  <dc:description/>
  <dc:language>en-US</dc:language>
  <cp:lastModifiedBy>Eliška</cp:lastModifiedBy>
  <dcterms:modified xsi:type="dcterms:W3CDTF">2016-08-30T10:47:43Z</dcterms:modified>
  <cp:revision>15</cp:revision>
  <dc:subject/>
  <dc:title>PowerPoint Presentation</dc:title>
</cp:coreProperties>
</file>